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9E42-C6BC-403C-BC7D-F226B11DF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E117-DCFE-40F1-BFC4-C65200A4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BEFD-2440-43D0-ACEE-7F764C24A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B92-1E03-4DE7-94F5-9D1E1BC9E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FEB4-C4E5-4192-818D-8FF632185B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FACC-7ECE-494F-A68B-6520B2D9B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446E-D93B-4B20-B378-3202293F8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7AF8-2E28-4AE6-A957-9F7F863E5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36BE-C7B6-4487-91CD-67E424FE4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D45-51C4-4871-A453-722932CD0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AF74-C0FA-43F8-A17B-E1260DE9D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4912-2C3C-4677-BB73-FC2D2D96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lide 3- </a:t>
            </a:r>
            <a:fld id="{52BAC2EC-12F2-4A5A-98FE-A92558AFA91F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39756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, 2007, 200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3281040" y="3281400"/>
            <a:ext cx="6858000" cy="295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-3065040" y="3358440"/>
            <a:ext cx="6856200" cy="136440"/>
          </a:xfrm>
          <a:prstGeom prst="rect">
            <a:avLst/>
          </a:prstGeom>
          <a:gradFill rotWithShape="0">
            <a:gsLst>
              <a:gs pos="0">
                <a:srgbClr val="c9c9c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0773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Active Learning Lecture Sli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509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9600"/>
            <a:ext cx="472428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56852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3:                       Statistics for Describing, Exploring, and Compar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8480" y="3233880"/>
            <a:ext cx="2664000" cy="31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0C34-788B-49F6-9F56-C9C75D7CC7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6040" y="517680"/>
            <a:ext cx="80168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 sales for a company are $10,000 with a standard deviation of $450.  Sales for the past week were $9050.  Thi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8F02-7F7B-4693-B9F2-6533A3FE9D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6040" y="517680"/>
            <a:ext cx="80168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 sales for a company are $10,000 with a standard deviation of $450.  Sales for the past week were $9050.  Thi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unusually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bou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3794040"/>
            <a:ext cx="3427560" cy="8222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E075-74F9-4283-BFA5-691DC110F1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30240" y="609480"/>
            <a:ext cx="77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ata set with a range of 55.1 to 102.8 and 300 observations, there are 207 data points with values less than 88.6.  Find the percentile for 88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6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144B-1C17-4766-AC14-1BFE946652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30240" y="609480"/>
            <a:ext cx="77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ata set with a range of 55.1 to 102.8 and 300 observations, there are 207 data points with values less than 88.6.  Find the percentile for 88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116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7880" y="4397400"/>
            <a:ext cx="161460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C3D1-2DCF-433E-94E8-6321346980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02060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raphic display shows the least detailed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m-and-leaf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96C8-7CCA-4DCF-BFDD-0567341964F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02060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raphic display shows the least detailed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tem-and-leaf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2480" y="3933720"/>
            <a:ext cx="2346480" cy="7318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1D6D-6464-4682-A6E6-3D77A3E1C7CA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nomin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3002-DAC7-4263-A856-ECF5708CDF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nomin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8320" y="3841920"/>
            <a:ext cx="205596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5230-E48A-46A2-ABF2-F3FD8D1915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85E1-F732-4EB9-ABCB-C6D35FDE1A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8320" y="3508200"/>
            <a:ext cx="2055960" cy="640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2E48-B27E-4621-866A-56CD68FBC6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18BF-99E2-42B2-A80D-31E2998CBD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2556000"/>
            <a:ext cx="140004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728F-386B-4EF5-BED7-9100C9AC79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337C-2C10-4748-8870-AA3BDCCE68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4143240"/>
            <a:ext cx="6140520" cy="746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85E3-069F-43E6-84F3-B36B85A365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Marty Triola</dc:creator>
  <dc:description/>
  <dc:language>en-US</dc:language>
  <cp:lastModifiedBy>ustavch</cp:lastModifiedBy>
  <cp:lastPrinted>2001-11-04T00:51:13Z</cp:lastPrinted>
  <dcterms:modified xsi:type="dcterms:W3CDTF">2009-04-16T17:50:48Z</dcterms:modified>
  <cp:revision>150</cp:revision>
  <dc:subject>Statistics for Describing, Exploring, and Comparing Data</dc:subject>
  <dc:title>Chapter 3</dc:title>
</cp:coreProperties>
</file>